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6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2.png" ContentType="image/png"/>
  <Override PartName="/ppt/media/image3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2DF9-768D-4470-B650-F23B35DB9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537-01E5-4400-B40F-2D261E6B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3C3-8491-423F-AE27-20E6A39F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400-98E9-473C-9479-63182030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C92-619C-4FBC-B7CC-EE504265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C1460-B1D2-49AC-86CE-D6F73510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9A9CF-3E8C-4C9C-B2A2-B1122D07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CAAB3-5838-461A-AD9C-122076B7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A63B2-77FD-4ADD-B34B-E266871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00D34-75C0-49E9-A440-B726492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AE7A6-0FA7-4CE4-A83D-8AB7461F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F5F94-EE25-4524-9D31-40245C5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1E0F-A750-4396-AAC8-75BFE1EF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FA31-EC08-4664-999C-00E17582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B4A-53E9-4C6B-A4DC-C3D39CEB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22C-3FFD-4A19-971E-8F4DA546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A16D-ED81-4DF0-9CB7-F850E3A9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2F2B-FF2B-4E51-BDCD-06D2E59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4CE6-213B-46B3-B2A7-247200C6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EFCD-F2AA-4F8C-92B5-2AC324D4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A94-C829-4AB6-8F2D-300D243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0D94-4B7D-412F-A068-B37856BF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B218-FC02-46FD-8206-E336EED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C9C-06F5-4FD3-90A2-F7EF7A93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2D0B-9B97-4B4F-98BC-B1EED85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809B-4E81-4A11-BAA8-83C4E88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F426-4FA8-4C8A-9535-DCC9826E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452-3BE4-4E5F-94EA-84D6A2C0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C6CB-4A09-4226-B9BF-4876768A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75B8-75BE-448A-97AB-153F458C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5A90-5920-4E84-87E9-1AFF0F06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7F61-4395-439B-B39C-6E030BE8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0DAE9-01AA-41FC-B7B9-48C422B1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8833-76B6-453B-B1F2-D1F752FD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432-9ACD-469C-ABA1-62AF99B6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6BFB-F25D-49B6-B1E1-1A169E66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3183-18DA-46B6-B73B-7052AE13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FA1D-D71E-4D26-A33F-76E110FA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72EA-7A53-4C0F-B0DD-0A0B208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6D90-5977-4878-9CBD-FECCDDEA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03D1-FBA5-44B9-868E-CC54B411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D46A-F725-43F6-9F4C-E0BEF59A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F744-BF3B-460B-AC54-8EC79E69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FC39-685A-4BEF-A671-D323296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74F4-7AE5-4E2F-888C-B113B713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CC2-0B44-4875-9DCD-5A7BDEFF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27A25-D92E-4358-B242-46562DC3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516E-6645-459A-A42A-FBE98247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FA27-BD4C-45A5-85A5-32AD8C8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F421-4587-411E-8E7E-6B73CF2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2F50-5B1E-48F8-8FD8-49A54AD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621E-E753-4E03-9E80-21DC01D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03F24-077C-4817-89EB-4F8BC6C7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6A02-1A83-48DF-B5C1-F3428CBD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E516-3437-4C60-AE90-B425E561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9506-0B78-47EC-8E71-160655B2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DC6-6D5A-4034-B3CE-0520837F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A328-8F1F-460D-A708-5403FB08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4AE2-F7DF-4A82-B4A1-37C6BC14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9C8C-BF0A-4B35-9F0C-6156737E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9859-55B8-4559-B3AD-ACB22D84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CBCA-631C-4E33-A52B-3EAAA6C8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0431-9722-4555-8F5D-14BAE74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BF71-B8DF-417C-9533-B59B7F6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8A11-A618-430E-BBA7-6B3AFD0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324D-9F09-4353-8380-1879E57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94A1-FCBC-41C1-9871-E666E3A9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480-B4D8-4305-9848-4C818556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3A2CB-6247-4DC0-851C-047D7698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B146-B578-4F65-A1E8-15B7AC65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B3D2-CFE7-45D8-8764-41F1A150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FCED-C6C0-42F5-8A0B-7A638B1D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0E4A-15E7-44CB-9EE5-229CE7DF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37A13-B9C5-470C-B447-C65764DD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92225-F525-480F-8C56-74F6BF8F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C0EE-B689-41FA-8068-DA0D5F1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3D1A2-CD17-41B6-AED5-9688C78A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42A4-ABDC-4F48-BCAE-3BA7FCE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BFC-CA4E-4BFC-BFC1-CF19C1A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A5D0-F23A-41F0-9849-5907A92F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2EA4A-84A6-4EAD-ABB0-FCB5A45B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BCCAC-6953-4E01-9E80-478398BE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659F7-8935-4251-AF79-8C5CC54A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3A06-F8A3-4E30-BFF7-D1E6B38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576B-7B71-40AD-AC67-7EBFBBF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A656-1813-4083-8569-56630BF6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39D9-C60F-4F2D-A152-2D4604BA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112C-5476-43EC-8FB5-A2DD7637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1831-25CA-419F-B293-FA5C8A2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D46-B635-4D31-8CCF-D80ADCA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3D94-27B7-4276-B98C-5FD6AE06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8EF69-E9E3-4CCC-AE56-370C523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3C6E-0BDE-4986-B425-D825C9D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AE3A-ABCA-462B-A7EB-5F6B0647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5A1A-4D97-48A7-A7E9-C62BA21B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F1B3-2E38-47D1-8859-DA6BCB9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E497-194A-4214-B6CB-60053B0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C04B6-9BA6-42C4-B370-E2147B4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9481B-9401-44B0-8B96-CEE7B88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62A6-F6C7-454E-BDF0-940E897A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340-0EAC-46D8-AD31-43B030F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ADAF3-5EA3-422F-B1FA-C7A92FF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1D1B-37E3-4954-A0BE-BF85AC90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5C0D5-B628-40A1-BD24-8C7CB26C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4DAAE-8D3F-42F1-9EA4-B43CA90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97829-0CCE-4E46-A6E1-CCAA681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C9845-276D-488D-A991-61B40DA3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68BDF-466C-437D-B28D-B8978144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584D6-E938-4A11-80AC-B425CAA4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CC8DC-4499-4F90-ACF9-C61DB47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226EC-F0F4-4A07-BF39-DE34D425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440B-D759-47E5-B2BF-9206766A5C92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EA8-2AB9-4031-B57B-D988879AFCDA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082-F58F-471C-AC1B-0BB504F62CB0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FC7F-ED0B-4A5B-B8D2-CB39471629BA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6D0B-6640-4D63-AF72-7675183C9B21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034C-EFE3-40B9-B70C-C6A9F2A0FE85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8D8-22E6-47C3-93A4-6187D5EA0D8F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9C3F-91F6-4F2B-8756-4063BA20EE75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F6A-9088-427D-BA23-AC9A7B932822}" type="slidenum">
              <a:rPr b="0" lang="en-US" sz="1200" spc="-1" strike="noStrike">
                <a:solidFill>
                  <a:srgbClr val="e130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-341280" y="755640"/>
            <a:ext cx="8120160" cy="1695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214360" y="2999880"/>
            <a:ext cx="67006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Celulele eucariote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 au nucleu  delimitat de un 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î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nve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l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i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ş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 nuclear 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ş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i membrane ce delimiteaz</a:t>
            </a:r>
            <a:r>
              <a:rPr b="0" lang="ro-RO" sz="2400" spc="-1" strike="noStrike">
                <a:solidFill>
                  <a:srgbClr val="595959"/>
                </a:solidFill>
                <a:latin typeface="Franklin Gothic Book"/>
              </a:rPr>
              <a:t>ă</a:t>
            </a:r>
            <a:r>
              <a:rPr b="0" lang="en-US" sz="2400" spc="-1" strike="noStrike">
                <a:solidFill>
                  <a:srgbClr val="595959"/>
                </a:solidFill>
                <a:latin typeface="Franklin Gothic Book"/>
              </a:rPr>
              <a:t> organite celulare.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55600" y="133200"/>
            <a:ext cx="3322800" cy="1208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http://www.phschool.com/science/biology_place/biocoach/images/cells/Vacuole.jpg"/>
          <p:cNvPicPr/>
          <p:nvPr/>
        </p:nvPicPr>
        <p:blipFill>
          <a:blip r:embed="rId2"/>
          <a:stretch/>
        </p:blipFill>
        <p:spPr>
          <a:xfrm>
            <a:off x="357120" y="2809800"/>
            <a:ext cx="3857760" cy="3486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http://www.biology.arizona.edu/cell_bio/tutorials/pev/graphics/vacuole.gif"/>
          <p:cNvPicPr/>
          <p:nvPr/>
        </p:nvPicPr>
        <p:blipFill>
          <a:blip r:embed="rId3"/>
          <a:stretch/>
        </p:blipFill>
        <p:spPr>
          <a:xfrm>
            <a:off x="1500120" y="1214280"/>
            <a:ext cx="1785960" cy="1336680"/>
          </a:xfrm>
          <a:prstGeom prst="rect">
            <a:avLst/>
          </a:prstGeom>
          <a:ln w="0">
            <a:noFill/>
          </a:ln>
        </p:spPr>
      </p:pic>
      <p:sp>
        <p:nvSpPr>
          <p:cNvPr id="437" name="Title 1"/>
          <p:cNvSpPr/>
          <p:nvPr/>
        </p:nvSpPr>
        <p:spPr>
          <a:xfrm>
            <a:off x="5286240" y="285840"/>
            <a:ext cx="3186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Comic Sans MS"/>
              </a:rPr>
              <a:t>LIZOZOM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http://www.biology.arizona.edu/cell_bio/tutorials/pev/graphics/lysosome.gif"/>
          <p:cNvPicPr/>
          <p:nvPr/>
        </p:nvPicPr>
        <p:blipFill>
          <a:blip r:embed="rId4"/>
          <a:stretch/>
        </p:blipFill>
        <p:spPr>
          <a:xfrm>
            <a:off x="5572080" y="242892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3.bp.blogspot.com/_IhrQCzSOfgY/SEIk1PZm29I/AAAAAAAAAFU/1tZv-XjCt1E/s400/66d3dc349dffilenameD235typeimagegif.gif"/>
          <p:cNvPicPr/>
          <p:nvPr/>
        </p:nvPicPr>
        <p:blipFill>
          <a:blip r:embed="rId2"/>
          <a:stretch/>
        </p:blipFill>
        <p:spPr>
          <a:xfrm>
            <a:off x="3786120" y="2214720"/>
            <a:ext cx="5180040" cy="42861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File:Plagiomnium affine laminazellen.jpeg"/>
          <p:cNvPicPr/>
          <p:nvPr/>
        </p:nvPicPr>
        <p:blipFill>
          <a:blip r:embed="rId3"/>
          <a:stretch/>
        </p:blipFill>
        <p:spPr>
          <a:xfrm>
            <a:off x="285840" y="1357200"/>
            <a:ext cx="340524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http://sites.google.com/site/scienceprofonline/CentrioleCentrosome2.jpg"/>
          <p:cNvPicPr/>
          <p:nvPr/>
        </p:nvPicPr>
        <p:blipFill>
          <a:blip r:embed="rId2"/>
          <a:stretch/>
        </p:blipFill>
        <p:spPr>
          <a:xfrm>
            <a:off x="357120" y="1428840"/>
            <a:ext cx="8472600" cy="500040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1" descr=""/>
          <p:cNvPicPr/>
          <p:nvPr/>
        </p:nvPicPr>
        <p:blipFill>
          <a:blip r:embed="rId1"/>
          <a:stretch/>
        </p:blipFill>
        <p:spPr>
          <a:xfrm>
            <a:off x="401760" y="281160"/>
            <a:ext cx="3079800" cy="1060200"/>
          </a:xfrm>
          <a:prstGeom prst="rect">
            <a:avLst/>
          </a:prstGeom>
          <a:ln w="0">
            <a:noFill/>
          </a:ln>
        </p:spPr>
      </p:pic>
      <p:sp>
        <p:nvSpPr>
          <p:cNvPr id="447" name="Title 1"/>
          <p:cNvSpPr/>
          <p:nvPr/>
        </p:nvSpPr>
        <p:spPr>
          <a:xfrm>
            <a:off x="4429080" y="357120"/>
            <a:ext cx="43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Comic Sans MS"/>
              </a:rPr>
              <a:t>FLAGEL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" descr="http://content8.eol.org/content/2008/12/10/20/31324_large.jpg"/>
          <p:cNvPicPr/>
          <p:nvPr/>
        </p:nvPicPr>
        <p:blipFill>
          <a:blip r:embed="rId2"/>
          <a:stretch/>
        </p:blipFill>
        <p:spPr>
          <a:xfrm>
            <a:off x="428760" y="1500120"/>
            <a:ext cx="3809880" cy="1838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http://l.yimg.com/www.flickr.com/images/spaceball.gif"/>
          <p:cNvPicPr/>
          <p:nvPr/>
        </p:nvPicPr>
        <p:blipFill>
          <a:blip r:embed="rId3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6" descr="http://l.yimg.com/www.flickr.com/images/spaceball.gif"/>
          <p:cNvPicPr/>
          <p:nvPr/>
        </p:nvPicPr>
        <p:blipFill>
          <a:blip r:embed="rId4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" descr="http://l.yimg.com/www.flickr.com/images/spaceball.gif"/>
          <p:cNvPicPr/>
          <p:nvPr/>
        </p:nvPicPr>
        <p:blipFill>
          <a:blip r:embed="rId5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0" descr="http://l.yimg.com/www.flickr.com/images/spaceball.gif"/>
          <p:cNvPicPr/>
          <p:nvPr/>
        </p:nvPicPr>
        <p:blipFill>
          <a:blip r:embed="rId6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2" descr="http://farm4.static.flickr.com/3343/3226101077_8f70398675.jpg"/>
          <p:cNvPicPr/>
          <p:nvPr/>
        </p:nvPicPr>
        <p:blipFill>
          <a:blip r:embed="rId7"/>
          <a:stretch/>
        </p:blipFill>
        <p:spPr>
          <a:xfrm>
            <a:off x="4786200" y="1285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http://micro.magnet.fsu.edu/cells/ciliaandflagella/images/ciliaandflagellafigure1.jpg"/>
          <p:cNvPicPr/>
          <p:nvPr/>
        </p:nvPicPr>
        <p:blipFill>
          <a:blip r:embed="rId8"/>
          <a:stretch/>
        </p:blipFill>
        <p:spPr>
          <a:xfrm>
            <a:off x="1428840" y="3643200"/>
            <a:ext cx="4814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328680" y="-6480"/>
            <a:ext cx="8407440" cy="1206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http://3.bp.blogspot.com/_VLonqa9WWQE/Sa8bbJlhbxI/AAAAAAAAAVI/IDRZj9aHvIY/s400/nucleo-celular.jpg"/>
          <p:cNvPicPr/>
          <p:nvPr/>
        </p:nvPicPr>
        <p:blipFill>
          <a:blip r:embed="rId2"/>
          <a:stretch/>
        </p:blipFill>
        <p:spPr>
          <a:xfrm>
            <a:off x="142920" y="1571760"/>
            <a:ext cx="6041880" cy="4214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http://www.scritube.com/files/biologie/30_poze/image030.jpg"/>
          <p:cNvPicPr/>
          <p:nvPr/>
        </p:nvPicPr>
        <p:blipFill>
          <a:blip r:embed="rId3"/>
          <a:stretch/>
        </p:blipFill>
        <p:spPr>
          <a:xfrm>
            <a:off x="6058080" y="4429080"/>
            <a:ext cx="30859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4572000" y="500040"/>
            <a:ext cx="4694400" cy="871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http://matragut.files.wordpress.com/2010/02/fig6_10.jpg"/>
          <p:cNvPicPr/>
          <p:nvPr/>
        </p:nvPicPr>
        <p:blipFill>
          <a:blip r:embed="rId2"/>
          <a:stretch/>
        </p:blipFill>
        <p:spPr>
          <a:xfrm>
            <a:off x="214200" y="1214280"/>
            <a:ext cx="4286520" cy="53802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romatina"/>
          <p:cNvPicPr/>
          <p:nvPr/>
        </p:nvPicPr>
        <p:blipFill>
          <a:blip r:embed="rId3"/>
          <a:stretch/>
        </p:blipFill>
        <p:spPr>
          <a:xfrm>
            <a:off x="5357880" y="1357200"/>
            <a:ext cx="3483000" cy="2281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Skeudenn:Nucleosome.jpg"/>
          <p:cNvPicPr/>
          <p:nvPr/>
        </p:nvPicPr>
        <p:blipFill>
          <a:blip r:embed="rId4"/>
          <a:stretch/>
        </p:blipFill>
        <p:spPr>
          <a:xfrm>
            <a:off x="4572000" y="4143240"/>
            <a:ext cx="28576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botanica.internet-caffe.net/admin/uploads/images/celula-vegetala.jpg"/>
          <p:cNvPicPr/>
          <p:nvPr/>
        </p:nvPicPr>
        <p:blipFill>
          <a:blip r:embed="rId1"/>
          <a:stretch/>
        </p:blipFill>
        <p:spPr>
          <a:xfrm>
            <a:off x="0" y="928800"/>
            <a:ext cx="4680000" cy="4984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www.doslourdes.net/monogr%C3%A1ficos-c%C3%A9lulas-metabolismo.jpg"/>
          <p:cNvPicPr/>
          <p:nvPr/>
        </p:nvPicPr>
        <p:blipFill>
          <a:blip r:embed="rId2"/>
          <a:stretch/>
        </p:blipFill>
        <p:spPr>
          <a:xfrm>
            <a:off x="4656240" y="928800"/>
            <a:ext cx="4487760" cy="5072040"/>
          </a:xfrm>
          <a:prstGeom prst="rect">
            <a:avLst/>
          </a:prstGeom>
          <a:ln w="0">
            <a:noFill/>
          </a:ln>
        </p:spPr>
      </p:pic>
      <p:sp>
        <p:nvSpPr>
          <p:cNvPr id="410" name="Title 1"/>
          <p:cNvSpPr/>
          <p:nvPr/>
        </p:nvSpPr>
        <p:spPr>
          <a:xfrm>
            <a:off x="5072040" y="214200"/>
            <a:ext cx="3357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Celula animal</a:t>
            </a:r>
            <a:r>
              <a:rPr b="0" lang="ro-RO" sz="2600" spc="-1" strike="noStrike">
                <a:solidFill>
                  <a:srgbClr val="000000"/>
                </a:solidFill>
                <a:latin typeface="Franklin Gothic Medium"/>
              </a:rPr>
              <a:t>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tle 1"/>
          <p:cNvSpPr/>
          <p:nvPr/>
        </p:nvSpPr>
        <p:spPr>
          <a:xfrm>
            <a:off x="500040" y="214200"/>
            <a:ext cx="3357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Celula</a:t>
            </a:r>
            <a:r>
              <a:rPr b="0" lang="ro-RO" sz="2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Franklin Gothic Medium"/>
              </a:rPr>
              <a:t>vegetal</a:t>
            </a:r>
            <a:r>
              <a:rPr b="0" lang="ro-RO" sz="2600" spc="-1" strike="noStrike">
                <a:solidFill>
                  <a:srgbClr val="000000"/>
                </a:solidFill>
                <a:latin typeface="Franklin Gothic Medium"/>
              </a:rPr>
              <a:t>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19240" y="281160"/>
            <a:ext cx="8375400" cy="957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28400" y="1285560"/>
            <a:ext cx="825804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RETELE CELULAR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666666"/>
                </a:solidFill>
                <a:latin typeface="Franklin Gothic Book"/>
              </a:rPr>
              <a:t>	</a:t>
            </a:r>
            <a:r>
              <a:rPr b="0" lang="en-US" sz="1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vel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rigid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prezent la celulele vegetale (unde predomi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eluloza), celulele algelor (unde predomi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eluloza), celulele fungale 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( unde predomi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hitina)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lipse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te la celulele animale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confer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individualitate fiec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rei celule, me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ne forma celulei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  contribuie la solidarizarea  celulelor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esuturi specializate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206360" y="133200"/>
            <a:ext cx="6986880" cy="1195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214960" y="1785600"/>
            <a:ext cx="35719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Func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i: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rol protector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func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a informa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onal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(recep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oneaz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stimuli externi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 informeaz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permane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t celula cu privire la condi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ile de mediu) 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func</a:t>
            </a:r>
            <a:r>
              <a:rPr b="1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ia de control  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asupra schimburilor de substan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e pe care 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celula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le realizeaz</a:t>
            </a:r>
            <a:r>
              <a:rPr b="0" lang="ro-RO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cu mediul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</p:txBody>
      </p:sp>
      <p:pic>
        <p:nvPicPr>
          <p:cNvPr id="416" name="Picture 2" descr="http://www.scritube.com/files/biologie/149_poze/image011.jpg"/>
          <p:cNvPicPr/>
          <p:nvPr/>
        </p:nvPicPr>
        <p:blipFill>
          <a:blip r:embed="rId2"/>
          <a:stretch/>
        </p:blipFill>
        <p:spPr>
          <a:xfrm>
            <a:off x="357120" y="2071800"/>
            <a:ext cx="4340160" cy="27144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1160280" y="500076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ul mozaicului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www.glogster.com/media/5/15/72/32/15723230.jpg"/>
          <p:cNvPicPr/>
          <p:nvPr/>
        </p:nvPicPr>
        <p:blipFill>
          <a:blip r:embed="rId1"/>
          <a:stretch/>
        </p:blipFill>
        <p:spPr>
          <a:xfrm>
            <a:off x="345960" y="2714760"/>
            <a:ext cx="8280360" cy="39956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158760" y="304920"/>
            <a:ext cx="8839080" cy="100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28760" y="78588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citoplasma fundamentală 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=CITOSOL (hialoplasm</a:t>
            </a: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ă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) </a:t>
            </a: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 care este </a:t>
            </a:r>
            <a:r>
              <a:rPr b="0" lang="ro-RO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î</a:t>
            </a: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nglobat CITOSCHELETUL</a:t>
            </a: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- ORGANITELE CELULARE</a:t>
            </a:r>
            <a:endParaRPr b="0" lang="en-US" sz="2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21" name="Title 1"/>
          <p:cNvSpPr/>
          <p:nvPr/>
        </p:nvSpPr>
        <p:spPr>
          <a:xfrm>
            <a:off x="2143080" y="2643120"/>
            <a:ext cx="5143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te celulare comune celulei vegetale 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ni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407440" cy="1206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Reticul endoplasmic rugos.jpg - "/>
          <p:cNvPicPr/>
          <p:nvPr/>
        </p:nvPicPr>
        <p:blipFill>
          <a:blip r:embed="rId2"/>
          <a:stretch/>
        </p:blipFill>
        <p:spPr>
          <a:xfrm>
            <a:off x="4357800" y="3429000"/>
            <a:ext cx="424656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i723.photobucket.com/albums/ww237/alphamalik/endoplasmicreticulumfigure1.jpg"/>
          <p:cNvPicPr/>
          <p:nvPr/>
        </p:nvPicPr>
        <p:blipFill>
          <a:blip r:embed="rId3"/>
          <a:stretch/>
        </p:blipFill>
        <p:spPr>
          <a:xfrm>
            <a:off x="0" y="1143000"/>
            <a:ext cx="54007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115920" y="281160"/>
            <a:ext cx="8405640" cy="1450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6143760" cy="3700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t3.gstatic.com/images?q=tbn:ANd9GcQlQDgiX7GpNXpvZxDJXxQtBHHl0zUXu8xvjwCSHd1Nb0wTPoU&amp;t=1&amp;usg=__LlYShNCUQp_brhXFAUfn7YJDy7U="/>
          <p:cNvPicPr/>
          <p:nvPr/>
        </p:nvPicPr>
        <p:blipFill>
          <a:blip r:embed="rId3"/>
          <a:stretch/>
        </p:blipFill>
        <p:spPr>
          <a:xfrm>
            <a:off x="6215040" y="4214880"/>
            <a:ext cx="2747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69800" y="201600"/>
            <a:ext cx="7948800" cy="1560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357120" y="100008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www.becomehealthynow.com/images/organs/cells/endo_retic.jpg"/>
          <p:cNvPicPr/>
          <p:nvPr/>
        </p:nvPicPr>
        <p:blipFill>
          <a:blip r:embed="rId3"/>
          <a:stretch/>
        </p:blipFill>
        <p:spPr>
          <a:xfrm>
            <a:off x="4643280" y="3071880"/>
            <a:ext cx="4305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146240" y="219240"/>
            <a:ext cx="6576840" cy="1542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Slika:Golgi apparatus.jpg"/>
          <p:cNvPicPr/>
          <p:nvPr/>
        </p:nvPicPr>
        <p:blipFill>
          <a:blip r:embed="rId2"/>
          <a:stretch/>
        </p:blipFill>
        <p:spPr>
          <a:xfrm>
            <a:off x="285840" y="928800"/>
            <a:ext cx="4214880" cy="5594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Fișier:Human leukocyte, showing golgi - TEM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5:24:29Z</dcterms:created>
  <dc:creator>Adi</dc:creator>
  <dc:description/>
  <dc:language>en-US</dc:language>
  <cp:lastModifiedBy>Adi</cp:lastModifiedBy>
  <dcterms:modified xsi:type="dcterms:W3CDTF">2010-10-18T09:12:33Z</dcterms:modified>
  <cp:revision>31</cp:revision>
  <dc:subject/>
  <dc:title>CELULA EUCARIOTA</dc:title>
</cp:coreProperties>
</file>